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53B9-62D7-4816-B77D-0C4DF28AA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AE04-28AF-4B9E-AA3A-F3E80AB0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E308C-23C9-4481-A4FA-387C27D0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6D3F0-D385-4144-BE36-05905363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A51C4-A2AA-47E5-9BAA-11CBF902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52796-F77A-4E7E-B942-18850234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5B09E-61D3-4A95-8290-8461147B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D3048-DDEB-40DB-9738-87C6EDED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DA2EA-CD5F-448D-A85A-C72DF010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AF46E-2CA2-433C-A493-FACFC279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54D03-CBBD-422C-994C-AF4475C4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2E6B6-37AE-4771-B00B-DB34C76D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960B-8D16-414A-8FC3-C59B0CFC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20D52-2C45-4999-B501-07601A12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D6055-1275-4A8C-BAE4-22371A56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16C91-6571-4067-939F-B3718F48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2F6A4-2DDF-4A1B-9CE8-661C03A2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D2012-42D1-4DEA-BAA6-3B9364ED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F7DD1-237C-4E2C-B5CF-51DDC067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1A3BE-68C3-4E3E-89D7-81A47BC8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F6A6A-53A9-46C7-A7D8-423A9947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723C4-1DC7-486A-B347-C17B3007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13809-5F1D-4FB7-8455-F8603226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1557-113F-446D-A945-11E3003C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03234-B566-4B35-8467-05745FF1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6664B-808B-47A4-B803-D5B60606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CB836-8EBF-4B57-B1AB-82C71721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C4D09-1835-4D18-976B-82928D5B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EF1F5-9814-4EDC-AB5D-30DF2BAC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2C05D-6DFB-4970-99DD-442A92F2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70990-F3D3-40B5-A7AE-CC0031ED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BAE06-D942-4524-A4A1-22081E0B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30738-D6C9-40F8-956A-42B7DC00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EDE5E-ED79-4054-82DF-56681053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8D30-CFFC-4752-A6E9-529DA680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A357D-7960-419C-A33B-B63BD894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BA0B3-A96E-44F1-9B06-9B4FD1E1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93FE4-4E84-4E33-80E1-E292FD3D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99EB6-A7A9-468A-8AEC-7151D01F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ABD01-D2AD-4273-881B-90875355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1965E-BA18-4973-B0EB-B0B2F6D6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687BF-9D16-429F-8DCB-F8D3821F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6C810-67F8-494C-A13E-4E8E85A8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BA990-5C60-4A69-9D5D-60479458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C3AB6-424A-4EA3-8F18-D8D6C08E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F1E9-FFDF-4103-ADCD-25E3A7E5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D72B2-7E7C-45C9-869E-60CDCE53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09F6C-9A04-4F96-AC37-0561DE78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06C38-220B-4442-8A97-8B28EB46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EB2FF-7D92-41B7-9D63-74DADABD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64AAD-03E6-4E3F-8AC5-A4E8DB40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9B9C-F681-491C-84B7-50DF64BC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321D-CE00-4E3F-8A22-747AE632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6901-25C9-4EAB-A3F2-DCE9AF7E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EC2B-D9B7-4FDE-827A-143212EC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FE70-7128-4E11-979E-EB305CAA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2793-F969-4CD2-B599-30AEB28D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ABD2-82AC-4CDD-9A1A-76D97330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84BF-A5B1-41C4-A852-729433F0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0ABB-C741-4EFE-8708-86393771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15FA-9F5A-4E1B-8DE1-1EBB2F36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B55A-CAA3-4961-ACBF-C972EFF4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3A773-3B53-4E64-8FA9-A62428E4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1D0C0-C17C-413F-9C92-63AC6906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7E3A2-D0FF-49D9-8075-C7502F42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F04D4-75F2-4843-AB9B-687B5597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1725C-36B1-4A6E-8144-8E1A90C8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9745-EC54-4431-ADD2-8CB23607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73091-538F-4505-B763-14541D7A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0E4D1-2254-4CED-84C0-CE6F51FB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45C53-3B1A-499D-AF8D-EA1B02B4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233F6-7990-42B0-AFD6-D39DAB18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81C7C-1B17-4F2D-9C6A-74586DD7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C730A-B197-4BDD-A197-CC6202E1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01495-7F62-4451-820C-6050F686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34D44-8981-4D09-B639-E4812269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C4EFC-D099-4F13-84A3-60D21FB9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496CA-0A3B-4538-95C8-CDEFA5DC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AB40-387F-4B06-958A-51DE7891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C3D61-FEEA-418B-BF07-FDA20E82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CA0A4-9DA4-4139-B1EE-1FB54549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9F324-4B5B-4F1E-AAFE-64C56AD2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DD20B-E2E1-4B84-92F3-26BFE06B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545A8-540C-42F5-98D8-36DFD067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9DFF2-168A-4D70-A9B7-01376B91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E397F-03E3-477A-8CDC-0DF53836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D20DC-C128-4C86-9102-1FE6D3E9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4E0A5-232D-4266-8A85-F7CF159FD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9A306-0029-4CFD-A524-4DC317E7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49A2-262E-47DD-9D8E-2F22F352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0F698-308E-4560-B3E7-26BDB2A5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53764-7483-49F5-94CE-EC84FE6F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342EB-D7E8-479E-AA76-3A76CA12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1AAC4-E20D-4CDE-9A25-F42BFEF7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224A1-4CBB-4799-8AC0-549A020C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86D94-E270-4DC8-9164-585111F8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7F532-75D6-4948-9F26-B4D1BB2C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FF1A4-7006-46B2-82A4-CC6275C5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6B99C-502C-478C-8F43-7822EF3D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9E2BD-90E0-4D42-A66D-E0EA4884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9ED8-E901-4D4E-9B4C-6B6292B6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45AED-4D87-4CA8-9955-ED3B4BBB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880BF-F9DF-4897-8DA4-DDCA610D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761B3-BB44-4CBE-B116-1F1268A7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29BAA-74B4-43F4-A855-2FECC20E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616D6-3A98-4008-AF3E-C27211C7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A1D51-DF24-4E09-B2D6-7A308415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31C50-FE23-469C-919B-78313CC2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CD1FE-F065-4775-9ED1-E48C1E63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12089-F8EA-458F-8C2E-F13A65D0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F0A20-57A2-4231-B508-20AC3C0E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9A7B-4943-42E2-9C16-58C032B4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EE67E-1EB3-49C8-AE59-B4D551C7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AD65E-98AF-4E46-A80E-0EB28768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12A6C-D7DF-487C-95B1-2E6696A6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FCFEF-9468-4EAA-B6E7-6D0999F7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BF354-3E7B-420E-B965-7795912E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1ACD1-32C3-4B5F-9C71-85A7E86B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EDD08-D8BA-4210-A66A-D8317588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B53EE-12CB-4E4D-94DF-2BE41F19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42C0B-0CBF-47C1-BD56-CE5FD01D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49370-0CEA-4505-BB7F-E131EB93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96CC-23E3-4CBC-B3A7-214FC3B0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20191-77AF-427B-AD1C-96F082D0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7CCE1-F596-4460-830C-B6627703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6C035-6CD7-464D-9D05-8769E295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C53DC-E839-402E-8253-23953CB7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B6226-2EF8-443E-B07F-D90E3894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AA00F-274A-4226-82DA-72A9FFB4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B6920-CBC3-4819-B566-7941EEC8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9E6F5-9F3F-4E24-ACFB-B9976721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1E80D-752B-4E3E-9E2E-C2701F40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39A8C-7DB4-421C-80BB-1BF12E4C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61E1-EF88-4592-A86D-AE3AC5B4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22ABA-9E97-4A69-BD1D-4ABEC34A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72E1C-0A2A-4BE4-8F5E-F6C3008C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929F0-F72F-4E42-9D98-96A8DBA0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E0066-62A2-4849-AA00-79F9B0D2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86F63-932A-4E1D-A3E3-37C021D9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A7D96-B510-49B5-9698-DE39B022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1BD27-BAFC-4A1F-92A3-2BCEC557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4240C-21B6-47F2-AB79-DF6E1292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FEAB2-B0B1-4CFA-8DD6-700965C8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4223E-3649-4189-9E1B-E669FCA2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8A92-4724-4B56-B03E-EF87C7CA53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4771-FC20-41E0-8117-67BECAA1A7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B04E-44AC-4C9F-856F-DFBC9AAC2D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3193-5F70-479A-90A9-74C558ED93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DFE5-4635-4E97-9420-66F3D80767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4E30-0B10-4DEF-B15D-E8B286B691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62A6-E6DE-4402-822B-1F4DB4DB7F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6DF3-5755-42F2-8DF2-54F407E944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DF16-38B3-480E-B6D4-3CAF474662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29CF-D05C-4343-8C1A-3202EFD835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5D0A-D962-4F11-9792-B2D95AB21F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08E5-7A8F-4446-B0CC-DDD978727B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Красноярская Мариинская женская гимназия-интернат»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нновационн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«Возможности применения таксономии Блума-Андерсона как механизма совершенствования образовательной деятельности гимназии и образовательных результатов гимназист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Рисунок 3" descr=""/>
          <p:cNvPicPr/>
          <p:nvPr/>
        </p:nvPicPr>
        <p:blipFill>
          <a:blip r:embed="rId1"/>
          <a:stretch/>
        </p:blipFill>
        <p:spPr>
          <a:xfrm>
            <a:off x="2700360" y="5445000"/>
            <a:ext cx="3600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нструктивный а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Конструиро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учебного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учебной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учебной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образовательной цели/резуль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на основе использования категорий «знание», «когнитивные процессы и  когнитивные действия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ехнологический а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108000" y="1125360"/>
            <a:ext cx="8928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Техники, практики, приемы, основанные на логике познания, на матрице «когнитивные процессы и когнитивные действия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«кубик и ромашка Блум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«карта понят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«шесть шляп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логические карты: «карта поведения под понятие», «карта понятий», «интеллект-карт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6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245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31640" y="549000"/>
            <a:ext cx="628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988920" y="2162160"/>
            <a:ext cx="6624720" cy="3914640"/>
          </a:xfrm>
          <a:prstGeom prst="rect">
            <a:avLst/>
          </a:prstGeom>
          <a:ln w="0">
            <a:noFill/>
          </a:ln>
        </p:spPr>
      </p:pic>
      <p:pic>
        <p:nvPicPr>
          <p:cNvPr id="519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109080" cy="6686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0" name=""/>
          <p:cNvGraphicFramePr/>
          <p:nvPr/>
        </p:nvGraphicFramePr>
        <p:xfrm>
          <a:off x="108000" y="1052640"/>
          <a:ext cx="8928000" cy="5708520"/>
        </p:xfrm>
        <a:graphic>
          <a:graphicData uri="http://schemas.openxmlformats.org/drawingml/2006/table">
            <a:tbl>
              <a:tblPr/>
              <a:tblGrid>
                <a:gridCol w="1511280"/>
                <a:gridCol w="5689440"/>
                <a:gridCol w="792360"/>
                <a:gridCol w="934920"/>
              </a:tblGrid>
              <a:tr h="153720">
                <a:tc rowSpan="2"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 уро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задачи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задания в рамках учебных задач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действи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У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ые УУ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ационно-организационный эта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задачи, учебные задания: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мотивации предстоящей УПД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актуализации опорных знаний и УД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определению темы уро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8520">
                <a:tc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 целеполаг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задачи и задания: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выделению и формулировке противоречия, проблемы, проблемного вопроса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пособ: «с затруднением», т.е. на основе отделения знания от незнания: «возможно – невозможно», «можем – не можем», «получается – не получается» и выделению недостающих знаний и УД;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пособ: «с удивлением», т.е. на основе сравнительного анализа двух фактов, мнений, предположений и осознания их несовпадения, противоречия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определению и формулировке цели в виде конечного образовательного результата/продукта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определению плана действий для достижения цели (задач урока): что сделать, как сделать, чего добиться, чем овладе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 овладения новыми знаниями и С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задачи и учебные задания: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поиску и выбору путей/способов УПД (обеспечивающих получение промежуточного образовательного результата/продукта) с использованием соответствующих форм взаимодействия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реализации выделенных путей/ способов УПД, обеспечивающих получение и обоснование образовательного результата/продукта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выделению места и значения новых знаний и УД (полученного образовательного результата/продукта) в учебной теме, разделе, предмет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 применения новых знани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задачи и учебные задания: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последовательности применения полученных знаний и УД: знать, понимать; применять; владеть на уровне анализа, оценки, творчества (созидания)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уровню применения новых знаний и УД: в учебной ситуации базового уровня; в учебной ситуации повышенного уровня; в жизненной ситуации (функциональность знаний и УД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 взаимопроверки, взаимоконтроля, самооценки, внешней оцен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задачи и учебные задания: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соотношению полученного образовательного результата/продукта с уже созданными ранее культурно-историческими аналогами, образцами;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выявлению ошибок, отклонений, неточностей и способов их устранения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самооценке и оценке полученных результатов/продуктов изучения, применения, владения с применением оценочной шкалы (уровневая оценка, балльная оценка, пятибалльная отметка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22680" rIns="226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вный эта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задачи и задания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осознанию полученного образовательного результата/продукта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осознанию путей, способов и учебных действий получения образовательного результата/продукта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выявлению оснований успехов и трудностей (а также путей преодоления этих трудностей)  в получении образовательного результата/ продук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1" name="Rectangle 1"/>
          <p:cNvSpPr/>
          <p:nvPr/>
        </p:nvSpPr>
        <p:spPr>
          <a:xfrm>
            <a:off x="1042920" y="32148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                                                          Класс                  Уч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1"/>
          <p:cNvSpPr/>
          <p:nvPr/>
        </p:nvSpPr>
        <p:spPr>
          <a:xfrm>
            <a:off x="2490480" y="0"/>
            <a:ext cx="35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ехнологическая карта уро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5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1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8" name="Рисунок 4" descr=""/>
          <p:cNvPicPr/>
          <p:nvPr/>
        </p:nvPicPr>
        <p:blipFill>
          <a:blip r:embed="rId2"/>
          <a:stretch/>
        </p:blipFill>
        <p:spPr>
          <a:xfrm>
            <a:off x="0" y="44280"/>
            <a:ext cx="9109080" cy="653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1" name="Рисунок 3" descr=""/>
          <p:cNvPicPr/>
          <p:nvPr/>
        </p:nvPicPr>
        <p:blipFill>
          <a:blip r:embed="rId2"/>
          <a:stretch/>
        </p:blipFill>
        <p:spPr>
          <a:xfrm>
            <a:off x="0" y="44280"/>
            <a:ext cx="9109080" cy="6675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4" name="Рисунок 3" descr=""/>
          <p:cNvPicPr/>
          <p:nvPr/>
        </p:nvPicPr>
        <p:blipFill>
          <a:blip r:embed="rId2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12840" y="6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 «Техники, приемы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Рисунок 3" descr=""/>
          <p:cNvPicPr/>
          <p:nvPr/>
        </p:nvPicPr>
        <p:blipFill>
          <a:blip r:embed="rId1"/>
          <a:stretch/>
        </p:blipFill>
        <p:spPr>
          <a:xfrm>
            <a:off x="826920" y="1824120"/>
            <a:ext cx="7201080" cy="477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7" name="Прямоугольник 4"/>
          <p:cNvSpPr/>
          <p:nvPr/>
        </p:nvSpPr>
        <p:spPr>
          <a:xfrm>
            <a:off x="2627280" y="1224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 «Кубик Блум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715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нновациооная програм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57120" y="1773360"/>
            <a:ext cx="7383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Развитие компетен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мышления обучающих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 основе применения таксоном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лума-Андерсо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роки реализ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прель 2021 – май 20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Рисунок 3" descr=""/>
          <p:cNvPicPr/>
          <p:nvPr/>
        </p:nvPicPr>
        <p:blipFill>
          <a:blip r:embed="rId1"/>
          <a:stretch/>
        </p:blipFill>
        <p:spPr>
          <a:xfrm>
            <a:off x="271440" y="1557360"/>
            <a:ext cx="4284720" cy="3095640"/>
          </a:xfrm>
          <a:prstGeom prst="rect">
            <a:avLst/>
          </a:prstGeom>
          <a:ln w="0">
            <a:noFill/>
          </a:ln>
        </p:spPr>
      </p:pic>
      <p:sp>
        <p:nvSpPr>
          <p:cNvPr id="539" name="Прямоугольник 4"/>
          <p:cNvSpPr/>
          <p:nvPr/>
        </p:nvSpPr>
        <p:spPr>
          <a:xfrm>
            <a:off x="2689920" y="1012680"/>
            <a:ext cx="335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хника «Ромашка Блум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Рисунок 5" descr=""/>
          <p:cNvPicPr/>
          <p:nvPr/>
        </p:nvPicPr>
        <p:blipFill>
          <a:blip r:embed="rId2"/>
          <a:srcRect l="3997" t="6852" r="5434" b="7530"/>
          <a:stretch/>
        </p:blipFill>
        <p:spPr>
          <a:xfrm>
            <a:off x="4140360" y="3573360"/>
            <a:ext cx="48956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Рисунок 3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127640" cy="3672000"/>
          </a:xfrm>
          <a:prstGeom prst="rect">
            <a:avLst/>
          </a:prstGeom>
          <a:ln w="0">
            <a:noFill/>
          </a:ln>
        </p:spPr>
      </p:pic>
      <p:sp>
        <p:nvSpPr>
          <p:cNvPr id="542" name="Прямоугольник 4"/>
          <p:cNvSpPr/>
          <p:nvPr/>
        </p:nvSpPr>
        <p:spPr>
          <a:xfrm>
            <a:off x="2854800" y="1125360"/>
            <a:ext cx="29469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4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хника «Шесть шляп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Прямоугольник 3"/>
          <p:cNvSpPr/>
          <p:nvPr/>
        </p:nvSpPr>
        <p:spPr>
          <a:xfrm>
            <a:off x="503280" y="907920"/>
            <a:ext cx="81374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е модели (карты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ения содержания образования (учебного материал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х использование в качестве приемов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я мыслительных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Рисунок 4" descr=""/>
          <p:cNvPicPr/>
          <p:nvPr/>
        </p:nvPicPr>
        <p:blipFill>
          <a:blip r:embed="rId1"/>
          <a:stretch/>
        </p:blipFill>
        <p:spPr>
          <a:xfrm>
            <a:off x="395280" y="1874880"/>
            <a:ext cx="8424720" cy="4794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Рисунок 3" descr=""/>
          <p:cNvPicPr/>
          <p:nvPr/>
        </p:nvPicPr>
        <p:blipFill>
          <a:blip r:embed="rId1"/>
          <a:stretch/>
        </p:blipFill>
        <p:spPr>
          <a:xfrm>
            <a:off x="0" y="1947960"/>
            <a:ext cx="9109080" cy="4865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46" name="Прямоугольник 4"/>
          <p:cNvSpPr/>
          <p:nvPr/>
        </p:nvSpPr>
        <p:spPr>
          <a:xfrm>
            <a:off x="426960" y="981000"/>
            <a:ext cx="82900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е модели (карты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ения содержания образования (учебного материал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х использование в качестве приемов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я мыслительных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Прямоугольник 4"/>
          <p:cNvSpPr/>
          <p:nvPr/>
        </p:nvSpPr>
        <p:spPr>
          <a:xfrm>
            <a:off x="426960" y="981000"/>
            <a:ext cx="82900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е модели (карты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ения содержания образования (учебного материал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х использование в качестве приемов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я мыслительных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Рисунок 1" descr=""/>
          <p:cNvPicPr/>
          <p:nvPr/>
        </p:nvPicPr>
        <p:blipFill>
          <a:blip r:embed="rId1"/>
          <a:stretch/>
        </p:blipFill>
        <p:spPr>
          <a:xfrm>
            <a:off x="0" y="1969920"/>
            <a:ext cx="9144000" cy="4772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Рисунок 3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8928000" cy="482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2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5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245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Рисунок 1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056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056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выки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XXI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539280" y="981000"/>
            <a:ext cx="8425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ниверсальные компетентно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мпетентность мыш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омпетентность взаимодействия с соб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омпетентность взаимодействия с друг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ве группы новых грамотнос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базовая инструментальная грамотность, включающа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читательскую грамо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атематическую грамо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ычислительную и алгоритмическую грамо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базовые специальные грамотности, включа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гражданскую грамот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финансовую грамот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авовую грамо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экологическую грамот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аучную, технологическую грамо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грамотность в области здоро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обенности Ж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07640" y="980640"/>
            <a:ext cx="9001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едназначение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работа со способными, одаренными и высокомотивированными к обучению детьми, их развитие, воспитание, социальное взросление, профессиональное и жизненное определение, компенсация дезадаптации в различных сферах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едущий приорит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выявление и сопровождение развития способностей и одаренностей гимназис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мпетентность мыш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78920" y="907920"/>
            <a:ext cx="8929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смысленная учебно-познавательная деятельность обучающихся посредств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огического мышления: т.е. применения логики в учебно-познавательной деят-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истемного мышления: т.е. понимания и интерпретации закономерностей и степени универсальности их применения; моделирования объектов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яв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реативного мышления: т.е. творчества, изобретательности, создания образовательных продук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34544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аксономия Блума-Андерс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79280" y="1341360"/>
            <a:ext cx="8785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ыделение двух подсист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атегория «знание»: фактическое, концептуальное, процедурное, метакогнитив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атегория «когнитивные процессы и действия» (от простейших к наиболее сложным): знать/помнить, понимать, применять, анализировать, оценивать, созда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Объект 2" descr="Образовательные цели в когнитивной сфере"/>
          <p:cNvPicPr/>
          <p:nvPr/>
        </p:nvPicPr>
        <p:blipFill>
          <a:blip r:embed="rId1"/>
          <a:stretch/>
        </p:blipFill>
        <p:spPr>
          <a:xfrm>
            <a:off x="1187280" y="404640"/>
            <a:ext cx="68407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тенциал таксоном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79280" y="1125000"/>
            <a:ext cx="8856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т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ксономии Блума-Андерсона в рамках ИД выделены три основных потенциальных аспекта для использования в качестве инструментария преобразования образовательной деятельности и образовательных результат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огический асп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онструктивный асп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ехнологический асп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огический а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Логика позн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логический цикл освоения учеб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последовательность выделенных когнитивных процес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соотношение когнитивных процессов и соответствующих им когнитивных 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2T17:01:59Z</dcterms:created>
  <dc:creator>НВ</dc:creator>
  <dc:description/>
  <dc:language>en-US</dc:language>
  <cp:lastModifiedBy>Надежда Владимировна</cp:lastModifiedBy>
  <dcterms:modified xsi:type="dcterms:W3CDTF">2024-03-13T10:22:59Z</dcterms:modified>
  <cp:revision>124</cp:revision>
  <dc:subject/>
  <dc:title>Профессиональный стандарт педагога</dc:title>
</cp:coreProperties>
</file>